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27.jpeg" ContentType="image/jpeg"/>
  <Override PartName="/ppt/media/image35.png" ContentType="image/png"/>
  <Override PartName="/ppt/media/image5.jpeg" ContentType="image/jpeg"/>
  <Override PartName="/ppt/media/image30.jpeg" ContentType="image/jpeg"/>
  <Override PartName="/ppt/media/image43.png" ContentType="image/png"/>
  <Override PartName="/ppt/media/image4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6.jpeg" ContentType="image/jpeg"/>
  <Override PartName="/ppt/media/image42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E256-6CF5-4911-B559-80FBB3DF3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7286-CC50-44BE-B833-A0C04B7B0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533B-8745-412B-B124-C01D96D8C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7573-8DC2-471A-8A1D-879C0900B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BE6F-07EA-4C51-BB12-D16CF8FC4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5B6F-BCFA-4EBF-AA1E-7D44872E4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18A6-C48B-4071-9975-ADEAB4699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45C1-EFA4-443E-AFA8-B57C90E27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4E61-966D-45E7-BAD7-825C1CFEF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E608-57B4-49F5-B54D-717706FCE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90CB-D89A-418B-8C93-E544096A5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FA55-36B7-4EDA-863D-B882F02F6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2475-D224-47E2-B23C-07FF3C76D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7779-9C5E-4138-9685-0482F4785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30CF-F18D-4FAD-81D3-2F3146CC4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CDB1-B107-4D2E-961D-D0058B392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B697-20E6-4FE1-B4F5-130FF99EE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8966-5D73-44E7-9815-473EF8758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899E-E434-44CC-940B-2A3CB38CF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306B-6155-459E-9CBE-26B326E3D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6486-A844-4FF5-9030-D9F5C79DB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0DF5-4B7C-4C75-A94A-C207CE6CF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F636-711A-4DF6-B8ED-A9363159A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6B03-F656-4508-ACD4-B31EB157B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7ACC-B2B1-4C4B-BC50-B17614558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059D-E75C-4359-8806-2B2AF24D9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04C5-519D-4765-959B-D1F60A0A0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3EF5-9E34-436D-A374-75D031ECD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F79A-56C4-4FEA-AB90-48537907A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4B1E-3439-4DE5-BFD5-B742392E7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8DCC-BF91-4EFF-876E-ECBBD2E1A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3C21-1435-44A8-A3D2-DDE7EAA7E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EEAE-E7D1-4049-968B-838A272F0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04C2-B5EE-4B5A-A7B7-5AC93A30E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A87F-421F-420C-B2B7-F3D339419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656E-1365-4E4B-B8ED-B021ED9CE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A4CF-2AEF-413F-BE12-45D0A01A6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9F59-9493-4DCE-A2E6-6D2114453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3F0D-28D6-43AE-82AB-450435EB0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6D00-37F4-455D-AB6A-F5081A309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A67C-617C-43E9-BD2D-C68CA76D5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A869-178B-498E-8B24-75C8EAE7C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4EAC-2923-414D-87FF-B6CEC0E9C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0360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0360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0360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0360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0360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0360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0360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0360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us_b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AutoShape 3"/>
          <p:cNvSpPr/>
          <p:nvPr/>
        </p:nvSpPr>
        <p:spPr>
          <a:xfrm>
            <a:off x="228600" y="228600"/>
            <a:ext cx="8686800" cy="5715000"/>
          </a:xfrm>
          <a:prstGeom prst="roundRect">
            <a:avLst>
              <a:gd name="adj" fmla="val 184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4" name="Picture 6" descr="us_icon_small"/>
          <p:cNvPicPr/>
          <p:nvPr/>
        </p:nvPicPr>
        <p:blipFill>
          <a:blip r:embed="rId3"/>
          <a:stretch/>
        </p:blipFill>
        <p:spPr>
          <a:xfrm>
            <a:off x="574560" y="6027840"/>
            <a:ext cx="727200" cy="776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us_logo_whiteSmall"/>
          <p:cNvPicPr/>
          <p:nvPr/>
        </p:nvPicPr>
        <p:blipFill>
          <a:blip r:embed="rId4"/>
          <a:stretch/>
        </p:blipFill>
        <p:spPr>
          <a:xfrm>
            <a:off x="7580160" y="6026040"/>
            <a:ext cx="954360" cy="77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us_b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us_icon_small"/>
          <p:cNvPicPr/>
          <p:nvPr/>
        </p:nvPicPr>
        <p:blipFill>
          <a:blip r:embed="rId3"/>
          <a:stretch/>
        </p:blipFill>
        <p:spPr>
          <a:xfrm>
            <a:off x="574560" y="5770440"/>
            <a:ext cx="941400" cy="1005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us_logo_whiteSmall"/>
          <p:cNvPicPr/>
          <p:nvPr/>
        </p:nvPicPr>
        <p:blipFill>
          <a:blip r:embed="rId4"/>
          <a:stretch/>
        </p:blipFill>
        <p:spPr>
          <a:xfrm>
            <a:off x="7427880" y="5770440"/>
            <a:ext cx="1233360" cy="1005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unitedstreaming.com/studentCenter/index.cfm?cdCode=WDF46-6FA4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unitedstreaming.com/professionalDevelopment/trainersToolkit/pdf/unitedstreaming%20in%20action%20-%20Closed%20Captioning%20on%20a%20PC.pdf" TargetMode="External"/><Relationship Id="rId2" Type="http://schemas.openxmlformats.org/officeDocument/2006/relationships/image" Target="../media/image22.png"/><Relationship Id="rId3" Type="http://schemas.openxmlformats.org/officeDocument/2006/relationships/hyperlink" Target="http://www.unitedstreaming.com/clickDirector.cfm/type/smi/action/download/media_file_id/1173008/strRealname/Questions_to_Consider.smi" TargetMode="External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7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unitedstreaming.com/tools/calendar/index.cfm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unitedstreaming.com/studentCenter/index.cfm?cdCode=T1A63-F872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unitedstreaming.com/studentCenter/index.cfm?cdCode=352B-6D17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unitedstreaming.com/studentCenter/index.cfm?cdCode=3488-1B55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50%20Ways/Earliest_Settlers.as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09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50 Ways to Integrate</a:t>
            </a: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900"/>
            </a:b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Discovery Education</a:t>
            </a:r>
            <a:r>
              <a:rPr b="0" i="1" lang="en-US" sz="4500" spc="-1" strike="noStrike">
                <a:solidFill>
                  <a:srgbClr val="ffffff"/>
                </a:solidFill>
                <a:latin typeface="Arial"/>
              </a:rPr>
              <a:t> streaming</a:t>
            </a:r>
            <a:endParaRPr b="0" lang="en-US" sz="45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762120" y="4114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t Monjan</a:t>
            </a:r>
            <a:br>
              <a:rPr sz="2800"/>
            </a:b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scovery Educator Networ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80880" y="5486400"/>
            <a:ext cx="129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Really Embedding Continued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57200" y="12952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Click on the Hammer And Wrench I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5181840" cy="344520"/>
          </a:xfrm>
          <a:prstGeom prst="rect">
            <a:avLst/>
          </a:prstGeom>
          <a:ln w="0">
            <a:noFill/>
          </a:ln>
        </p:spPr>
      </p:pic>
      <p:sp>
        <p:nvSpPr>
          <p:cNvPr id="127" name="Oval 6"/>
          <p:cNvSpPr/>
          <p:nvPr/>
        </p:nvSpPr>
        <p:spPr>
          <a:xfrm>
            <a:off x="5334120" y="1676520"/>
            <a:ext cx="53316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57200" y="2362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Scroll down and choose Windows Media 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5715000" y="2438280"/>
            <a:ext cx="3048120" cy="2151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990720" y="29718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ill change your cursor to a + symbol –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ing you the ability to draw a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Really Embedding Continued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Draw a box and then right-click on the box and choo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38289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Almost there…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Click inside the blank box next to the box titled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click on the three littl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2971800" cy="4419360"/>
          </a:xfrm>
          <a:prstGeom prst="rect">
            <a:avLst/>
          </a:prstGeom>
          <a:ln w="0">
            <a:noFill/>
          </a:ln>
        </p:spPr>
      </p:pic>
      <p:sp>
        <p:nvSpPr>
          <p:cNvPr id="137" name="Line 6"/>
          <p:cNvSpPr/>
          <p:nvPr/>
        </p:nvSpPr>
        <p:spPr>
          <a:xfrm flipH="1">
            <a:off x="6400440" y="20574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>
            <a:off x="6095880" y="19810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WindowsMediaPlayer1" descr=""/>
          <p:cNvPicPr/>
          <p:nvPr/>
        </p:nvPicPr>
        <p:blipFill>
          <a:blip r:embed="rId2"/>
          <a:stretch/>
        </p:blipFill>
        <p:spPr>
          <a:xfrm>
            <a:off x="4038480" y="533520"/>
            <a:ext cx="4572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Finding the video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Click o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w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ton to find the video that you want to embed, then che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tch to f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ton and then click on the OK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457880" cy="39621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5486400" y="2590920"/>
            <a:ext cx="76212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2286000" y="4267080"/>
            <a:ext cx="106668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191120" y="5562720"/>
            <a:ext cx="6858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Voila!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w embedded a video with controls like fast forward, rewind, pause, etc – play your PPT to see the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WindowsMediaPlayer1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4038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65b2"/>
                </a:solidFill>
                <a:latin typeface="Arial"/>
              </a:rPr>
              <a:t>unitedstreaming Audio – Song + Power Point</a:t>
            </a:r>
            <a:endParaRPr b="0" lang="en-US" sz="28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447920" y="36576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304920" y="106668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treaming has close to 400 elementary school songs on the site. To find them change the Within Drop Down box to Songs and click on the “Go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4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5715000" cy="97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5" descr=""/>
          <p:cNvPicPr/>
          <p:nvPr/>
        </p:nvPicPr>
        <p:blipFill>
          <a:blip r:embed="rId2"/>
          <a:stretch/>
        </p:blipFill>
        <p:spPr>
          <a:xfrm>
            <a:off x="5943600" y="1676520"/>
            <a:ext cx="1447920" cy="15429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26"/>
          <p:cNvSpPr/>
          <p:nvPr/>
        </p:nvSpPr>
        <p:spPr>
          <a:xfrm>
            <a:off x="304920" y="2971800"/>
            <a:ext cx="304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the song (right-click, “save target as” on PC or ctl + click on Mac) and insert it into your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7" descr=""/>
          <p:cNvPicPr/>
          <p:nvPr/>
        </p:nvPicPr>
        <p:blipFill>
          <a:blip r:embed="rId3"/>
          <a:stretch/>
        </p:blipFill>
        <p:spPr>
          <a:xfrm>
            <a:off x="3352680" y="2590920"/>
            <a:ext cx="5410440" cy="2493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8"/>
          <p:cNvSpPr/>
          <p:nvPr/>
        </p:nvSpPr>
        <p:spPr>
          <a:xfrm>
            <a:off x="380880" y="45720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add in DE streaming Images or create your own and ad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urnal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ing Prompt Builde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(located in the Teacher Center)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158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>
            <a:hlinkClick r:id="rId2"/>
          </p:cNvPr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ing Suppor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lose Captioning)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161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65b2"/>
                </a:solidFill>
                <a:latin typeface="Arial"/>
              </a:rPr>
              <a:t>Why use Close Captioning in the classroom?</a:t>
            </a:r>
            <a:endParaRPr b="0" lang="en-US" sz="28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students who are hearing impa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ELL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struggling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mphasize a grammar or vocabulary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se in combination with a writing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inforce a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Finding CC files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into unitedstreaming.com and click o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d Sear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oll down and click in the box next to “Include only Closed Captioned Tit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561080" cy="1209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"/>
          <p:cNvSpPr/>
          <p:nvPr/>
        </p:nvSpPr>
        <p:spPr>
          <a:xfrm>
            <a:off x="4267080" y="2971800"/>
            <a:ext cx="914400" cy="304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1676520" y="4572000"/>
            <a:ext cx="55623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rcRect l="8594" t="16131" r="34376" b="8150"/>
          <a:stretch/>
        </p:blipFill>
        <p:spPr>
          <a:xfrm>
            <a:off x="2209680" y="1295280"/>
            <a:ext cx="4660920" cy="4496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65b2"/>
                </a:solidFill>
                <a:latin typeface="Arial"/>
              </a:rPr>
              <a:t>Professional Development &gt; Trainer’s Toolkit &gt; Integration Ideas</a:t>
            </a:r>
            <a:endParaRPr b="0" lang="en-US" sz="2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733920" y="419112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Downloading a Closed Captioned Movie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ight-click on the blue download icon, choose “Save Target As” and then place it in a folder on your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repeat the process, this time right-clicking on the “CC” 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the CC settings within your Windows Media Player –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C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"/>
          <p:cNvPicPr/>
          <p:nvPr/>
        </p:nvPicPr>
        <p:blipFill>
          <a:blip r:embed="rId2"/>
          <a:stretch/>
        </p:blipFill>
        <p:spPr>
          <a:xfrm>
            <a:off x="7543800" y="12193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icon_cc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000240"/>
            <a:ext cx="6094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CC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sed Captioning Tr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CC file in a text editing program like Wordpad or Note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the line of code that indicates “font siz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the font size from 10 to 30 (or whatever you pre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he CC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c trick 3"/>
          <p:cNvPicPr/>
          <p:nvPr/>
        </p:nvPicPr>
        <p:blipFill>
          <a:blip r:embed="rId1"/>
          <a:stretch/>
        </p:blipFill>
        <p:spPr>
          <a:xfrm>
            <a:off x="5029200" y="982800"/>
            <a:ext cx="3733920" cy="2751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cc trick 4"/>
          <p:cNvPicPr/>
          <p:nvPr/>
        </p:nvPicPr>
        <p:blipFill>
          <a:blip r:embed="rId2"/>
          <a:stretch/>
        </p:blipFill>
        <p:spPr>
          <a:xfrm>
            <a:off x="5334120" y="4267080"/>
            <a:ext cx="3047760" cy="851040"/>
          </a:xfrm>
          <a:prstGeom prst="rect">
            <a:avLst/>
          </a:prstGeom>
          <a:ln w="0">
            <a:noFill/>
          </a:ln>
        </p:spPr>
      </p:pic>
      <p:sp>
        <p:nvSpPr>
          <p:cNvPr id="178" name="Line 6"/>
          <p:cNvSpPr/>
          <p:nvPr/>
        </p:nvSpPr>
        <p:spPr>
          <a:xfrm>
            <a:off x="6324480" y="228600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CC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180" name="Picture 3" descr="cc trick 5"/>
          <p:cNvPicPr/>
          <p:nvPr/>
        </p:nvPicPr>
        <p:blipFill>
          <a:blip r:embed="rId1"/>
          <a:stretch/>
        </p:blipFill>
        <p:spPr>
          <a:xfrm>
            <a:off x="533520" y="1295280"/>
            <a:ext cx="4527360" cy="3092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cc trick 6"/>
          <p:cNvPicPr/>
          <p:nvPr/>
        </p:nvPicPr>
        <p:blipFill>
          <a:blip r:embed="rId2"/>
          <a:stretch/>
        </p:blipFill>
        <p:spPr>
          <a:xfrm>
            <a:off x="1357200" y="2133720"/>
            <a:ext cx="1981440" cy="1361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cc trick 7"/>
          <p:cNvPicPr/>
          <p:nvPr/>
        </p:nvPicPr>
        <p:blipFill>
          <a:blip r:embed="rId3"/>
          <a:stretch/>
        </p:blipFill>
        <p:spPr>
          <a:xfrm>
            <a:off x="4097160" y="2503440"/>
            <a:ext cx="4589640" cy="3135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c trick 6"/>
          <p:cNvPicPr/>
          <p:nvPr/>
        </p:nvPicPr>
        <p:blipFill>
          <a:blip r:embed="rId4"/>
          <a:stretch/>
        </p:blipFill>
        <p:spPr>
          <a:xfrm>
            <a:off x="5029200" y="3352680"/>
            <a:ext cx="1981080" cy="1362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18288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594360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CC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187" name="Picture 3" descr="cc trick 8"/>
          <p:cNvPicPr/>
          <p:nvPr/>
        </p:nvPicPr>
        <p:blipFill>
          <a:blip r:embed="rId1"/>
          <a:stretch/>
        </p:blipFill>
        <p:spPr>
          <a:xfrm>
            <a:off x="3048120" y="1787400"/>
            <a:ext cx="5638680" cy="3851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c trick 6"/>
          <p:cNvPicPr/>
          <p:nvPr/>
        </p:nvPicPr>
        <p:blipFill>
          <a:blip r:embed="rId2"/>
          <a:stretch/>
        </p:blipFill>
        <p:spPr>
          <a:xfrm>
            <a:off x="4419720" y="2981160"/>
            <a:ext cx="1981080" cy="1362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cc trick 9"/>
          <p:cNvPicPr/>
          <p:nvPr/>
        </p:nvPicPr>
        <p:blipFill>
          <a:blip r:embed="rId3"/>
          <a:srcRect l="0" t="0" r="8844" b="0"/>
          <a:stretch/>
        </p:blipFill>
        <p:spPr>
          <a:xfrm>
            <a:off x="457200" y="1219320"/>
            <a:ext cx="5183280" cy="1457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day is Your Birthda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alendar)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ocated in the Teacher Center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191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">
            <a:hlinkClick r:id="rId2"/>
          </p:cNvPr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signment Builde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(located in the Teacher Center)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194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>
            <a:hlinkClick r:id="rId2"/>
          </p:cNvPr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aphic Organiz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ools like Inspiration)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197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"/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65b2"/>
                </a:solidFill>
                <a:latin typeface="Arial"/>
              </a:rPr>
              <a:t>Embed Discovery Education streaming videos, sounds, songs and more in Inspiration 8</a:t>
            </a:r>
            <a:endParaRPr b="0" lang="en-US" sz="28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1752480" y="1249200"/>
            <a:ext cx="579132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cyclopedi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oose Articles from Within Box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202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2895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rticles from the Within Box and click on the Go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ready for another cool trick with PP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3352680" y="1143000"/>
            <a:ext cx="533412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media Presentations</a:t>
            </a:r>
            <a:endParaRPr b="0" lang="en-US" sz="44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97" name="Picture 6" descr="Fly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>
            <a:hlinkClick r:id="rId3" action="ppaction://hlinksldjump"/>
          </p:cNvPr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Recording Sound with PPT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word Insert in your Tool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Movies and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Record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 d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cord your students narrating the encyclopedia article that you round in DE 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4419720" y="1219320"/>
            <a:ext cx="3562200" cy="4038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5867280" y="2209680"/>
            <a:ext cx="28288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iz Builde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ocated in the Teacher Center)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211" name="Picture 3" descr="Fly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>
            <a:hlinkClick r:id="rId3"/>
          </p:cNvPr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ni-Movi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iMovie, MovieMaker, etc)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214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rning Stations</a:t>
            </a:r>
            <a:endParaRPr b="0" lang="en-US" sz="44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217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fessional Development</a:t>
            </a:r>
            <a:endParaRPr b="0" lang="en-US" sz="44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220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>
            <a:hlinkClick r:id="" action="ppaction://hlinkshowjump?jump=nextslide"/>
          </p:cNvPr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1"/>
          <a:srcRect l="10938" t="19896" r="14065" b="4303"/>
          <a:stretch/>
        </p:blipFill>
        <p:spPr>
          <a:xfrm>
            <a:off x="2209680" y="903240"/>
            <a:ext cx="5029200" cy="369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2"/>
          <a:srcRect l="11715" t="36037" r="17197" b="12916"/>
          <a:stretch/>
        </p:blipFill>
        <p:spPr>
          <a:xfrm>
            <a:off x="380880" y="1208160"/>
            <a:ext cx="1600200" cy="83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4" name="Picture 5" descr=""/>
          <p:cNvPicPr/>
          <p:nvPr/>
        </p:nvPicPr>
        <p:blipFill>
          <a:blip r:embed="rId3"/>
          <a:srcRect l="11721" t="37100" r="38281" b="11290"/>
          <a:stretch/>
        </p:blipFill>
        <p:spPr>
          <a:xfrm>
            <a:off x="6858000" y="369720"/>
            <a:ext cx="1676520" cy="12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5" name="Picture 6" descr=""/>
          <p:cNvPicPr/>
          <p:nvPr/>
        </p:nvPicPr>
        <p:blipFill>
          <a:blip r:embed="rId4"/>
          <a:srcRect l="30470" t="20968" r="30470" b="8602"/>
          <a:stretch/>
        </p:blipFill>
        <p:spPr>
          <a:xfrm>
            <a:off x="609480" y="2732040"/>
            <a:ext cx="130824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6" name="Picture 7" descr=""/>
          <p:cNvPicPr/>
          <p:nvPr/>
        </p:nvPicPr>
        <p:blipFill>
          <a:blip r:embed="rId5"/>
          <a:stretch/>
        </p:blipFill>
        <p:spPr>
          <a:xfrm>
            <a:off x="6781680" y="2351160"/>
            <a:ext cx="1828800" cy="132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Picture 8" descr=""/>
          <p:cNvPicPr/>
          <p:nvPr/>
        </p:nvPicPr>
        <p:blipFill>
          <a:blip r:embed="rId6"/>
          <a:srcRect l="14844" t="68286" r="36720" b="11828"/>
          <a:stretch/>
        </p:blipFill>
        <p:spPr>
          <a:xfrm>
            <a:off x="5562720" y="4713120"/>
            <a:ext cx="2438280" cy="72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8" name="Picture 9" descr=""/>
          <p:cNvPicPr/>
          <p:nvPr/>
        </p:nvPicPr>
        <p:blipFill>
          <a:blip r:embed="rId7"/>
          <a:srcRect l="12504" t="15059" r="13281" b="4299"/>
          <a:stretch/>
        </p:blipFill>
        <p:spPr>
          <a:xfrm>
            <a:off x="2133720" y="4789440"/>
            <a:ext cx="1752480" cy="138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9" name="Line 10"/>
          <p:cNvSpPr/>
          <p:nvPr/>
        </p:nvSpPr>
        <p:spPr>
          <a:xfrm flipH="1">
            <a:off x="1980720" y="3189240"/>
            <a:ext cx="304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2514600" y="4484520"/>
            <a:ext cx="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>
            <a:off x="5257800" y="4560840"/>
            <a:ext cx="228600" cy="152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3"/>
          <p:cNvSpPr/>
          <p:nvPr/>
        </p:nvSpPr>
        <p:spPr>
          <a:xfrm flipV="1">
            <a:off x="5410080" y="1588680"/>
            <a:ext cx="1295640" cy="685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"/>
          <p:cNvSpPr/>
          <p:nvPr/>
        </p:nvSpPr>
        <p:spPr>
          <a:xfrm flipV="1">
            <a:off x="5638680" y="3036600"/>
            <a:ext cx="990720" cy="152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5"/>
          <p:cNvSpPr/>
          <p:nvPr/>
        </p:nvSpPr>
        <p:spPr>
          <a:xfrm flipH="1" flipV="1">
            <a:off x="2057040" y="2122560"/>
            <a:ext cx="152280" cy="3045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rtual Field Trip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Google Earth and unitedstreaming)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236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4"/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m Festiva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merican Film Institute)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239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lture Club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Discovery Interactive Atlas)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242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65b2"/>
                </a:solidFill>
                <a:latin typeface="Arial"/>
              </a:rPr>
              <a:t>Explore your world with out leaving your classroom!</a:t>
            </a:r>
            <a:endParaRPr b="0" lang="en-US" sz="28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1833840" cy="2971800"/>
          </a:xfrm>
          <a:prstGeom prst="rect">
            <a:avLst/>
          </a:prstGeom>
          <a:ln w="0">
            <a:noFill/>
          </a:ln>
        </p:spPr>
      </p:pic>
      <p:sp>
        <p:nvSpPr>
          <p:cNvPr id="246" name="Oval 4"/>
          <p:cNvSpPr/>
          <p:nvPr/>
        </p:nvSpPr>
        <p:spPr>
          <a:xfrm>
            <a:off x="304920" y="2438280"/>
            <a:ext cx="190476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2209680" y="1981080"/>
            <a:ext cx="6389640" cy="3803760"/>
          </a:xfrm>
          <a:prstGeom prst="rect">
            <a:avLst/>
          </a:prstGeom>
          <a:ln w="0">
            <a:noFill/>
          </a:ln>
        </p:spPr>
      </p:pic>
      <p:sp>
        <p:nvSpPr>
          <p:cNvPr id="248" name="Oval 6"/>
          <p:cNvSpPr/>
          <p:nvPr/>
        </p:nvSpPr>
        <p:spPr>
          <a:xfrm>
            <a:off x="1981080" y="5257800"/>
            <a:ext cx="19051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2590920" y="1295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Atlas as an Acti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PowerPoint and Multi-Media Presentations 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33520" y="1066680"/>
            <a:ext cx="81532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 ke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6dbf"/>
                </a:solidFill>
                <a:latin typeface="Arial"/>
              </a:rPr>
              <a:t>Hyperlin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inking to a website, video, document or slide that is different or outside of  your current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ast forward/rewi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opens a different window, you leave your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6dbf"/>
                </a:solidFill>
                <a:latin typeface="Arial"/>
              </a:rPr>
              <a:t>Embedd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lacing a document, video, sound, image, etc within the framework of your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looks pretty, you stay within your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lose ability to fast forward and re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gage Your Studen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ll you use it for?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252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.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t Monjan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_monjan@discovery.com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overy Education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stream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discoveryeducation.com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overy Educator Network (DE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dencommunity.com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380880" y="5486400"/>
            <a:ext cx="129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Instructions for Hyperlinking and Embedding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8088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yperlinking to a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Embedding a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Really Embedding a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Images + S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Steps for Hyperlinking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into unitedstre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a video, segment, image, son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som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ight the text “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ome 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ocated in your tool 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bottom and select Hyper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file that you downloaded and sele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te it can be within the same Power Poin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>
            <a:hlinkClick r:id="" action="ppaction://hlinkshowjump?jump=previousslide"/>
          </p:cNvPr>
          <p:cNvSpPr/>
          <p:nvPr/>
        </p:nvSpPr>
        <p:spPr>
          <a:xfrm>
            <a:off x="380880" y="548640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10800"/>
                </a:moveTo>
                <a:lnTo>
                  <a:pt x="24293" y="3794"/>
                </a:lnTo>
                <a:lnTo>
                  <a:pt x="242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Steps for Embedding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up to In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ies and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ie from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igate to the file that you down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838080" y="548640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10800"/>
                </a:moveTo>
                <a:lnTo>
                  <a:pt x="24293" y="3794"/>
                </a:lnTo>
                <a:lnTo>
                  <a:pt x="242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Example of Video + Power Point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00600" y="1142640"/>
            <a:ext cx="4038480" cy="4343400"/>
          </a:xfrm>
          <a:prstGeom prst="rect">
            <a:avLst/>
          </a:prstGeom>
          <a:noFill/>
          <a:ln w="19080">
            <a:solidFill>
              <a:srgbClr val="00599b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with three of your classmates, draw a map of your school – without leaving your classroo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your exploration of your school and its grounds, draw at least 10 items/areas that you find along your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get back draw a time line of your adventure- make sure that you include significant events that you encountered along th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838080" y="548640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10800"/>
                </a:moveTo>
                <a:lnTo>
                  <a:pt x="24293" y="3794"/>
                </a:lnTo>
                <a:lnTo>
                  <a:pt x="242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3733920" cy="25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65b2"/>
                </a:solidFill>
                <a:latin typeface="Arial"/>
              </a:rPr>
              <a:t>Now for something really cool</a:t>
            </a:r>
            <a:endParaRPr b="0" lang="en-US" sz="28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14" name="AutoShape 4">
            <a:hlinkClick r:id="rId1" action="ppaction://hlinksldjump"/>
          </p:cNvPr>
          <p:cNvSpPr/>
          <p:nvPr/>
        </p:nvSpPr>
        <p:spPr>
          <a:xfrm>
            <a:off x="838080" y="548640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10800"/>
                </a:moveTo>
                <a:lnTo>
                  <a:pt x="24293" y="3794"/>
                </a:lnTo>
                <a:lnTo>
                  <a:pt x="242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5029200" y="45720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6dbf"/>
                </a:solidFill>
                <a:latin typeface="Arial"/>
              </a:rPr>
              <a:t>Really Embedding – PC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457200" y="13716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Go to your tool bar and click on the word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7162920" cy="336600"/>
          </a:xfrm>
          <a:prstGeom prst="rect">
            <a:avLst/>
          </a:prstGeom>
          <a:ln w="0">
            <a:noFill/>
          </a:ln>
        </p:spPr>
      </p:pic>
      <p:sp>
        <p:nvSpPr>
          <p:cNvPr id="118" name="Oval 11"/>
          <p:cNvSpPr/>
          <p:nvPr/>
        </p:nvSpPr>
        <p:spPr>
          <a:xfrm>
            <a:off x="2209680" y="1676520"/>
            <a:ext cx="5335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533520" y="25909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Click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b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Tool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"/>
          <p:cNvPicPr/>
          <p:nvPr/>
        </p:nvPicPr>
        <p:blipFill>
          <a:blip r:embed="rId3"/>
          <a:stretch/>
        </p:blipFill>
        <p:spPr>
          <a:xfrm>
            <a:off x="5715000" y="2133720"/>
            <a:ext cx="1619280" cy="3181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"/>
          <p:cNvPicPr/>
          <p:nvPr/>
        </p:nvPicPr>
        <p:blipFill>
          <a:blip r:embed="rId4"/>
          <a:stretch/>
        </p:blipFill>
        <p:spPr>
          <a:xfrm>
            <a:off x="7315200" y="2514600"/>
            <a:ext cx="1523880" cy="3333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7"/>
          <p:cNvSpPr/>
          <p:nvPr/>
        </p:nvSpPr>
        <p:spPr>
          <a:xfrm>
            <a:off x="457200" y="33526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ill bring up a box that looks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8" descr=""/>
          <p:cNvPicPr/>
          <p:nvPr/>
        </p:nvPicPr>
        <p:blipFill>
          <a:blip r:embed="rId5"/>
          <a:stretch/>
        </p:blipFill>
        <p:spPr>
          <a:xfrm>
            <a:off x="380880" y="3886200"/>
            <a:ext cx="5181840" cy="3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16:14:03Z</dcterms:created>
  <dc:creator>Scott Kinney</dc:creator>
  <dc:description/>
  <dc:language>en-US</dc:language>
  <cp:lastModifiedBy> </cp:lastModifiedBy>
  <dcterms:modified xsi:type="dcterms:W3CDTF">2008-02-10T19:46:32Z</dcterms:modified>
  <cp:revision>131</cp:revision>
  <dc:subject/>
  <dc:title>Overview for Presenter: DELETE or HIDE this slide</dc:title>
</cp:coreProperties>
</file>